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8A87-C578-45C9-A53C-5C8E36C81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AA84-C5F3-47DC-B543-3C20889AF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FED-3B45-4477-9A91-F8C7C017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A8B-CC8C-41E8-B95C-231B0B1E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EE7-B29A-4356-A2AE-F62C0820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BE0-69F2-411A-BFB9-5C85B257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F63-029D-445D-B92D-CD11040E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2CC-F466-44EE-9FCB-5CEC2DFA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BD2-EB8E-4A86-B61F-E2F8F80A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99C-0412-4066-AF7F-EFEDD5E4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493-D034-4EAA-B4AE-2C6E27AD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383-E0C7-483D-AAF6-2C65FA98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1B6-EA9D-4ED4-B99B-4A32AEAB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E2B-F737-4B35-9A87-0C82C401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407C-AB80-4405-8E14-E3A16E1F3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ita Kopc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Rita Kopczyn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Rita Kopczynski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Rita Kopczynsk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Rita Kopczynsk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Rita. Yo vivo en New York. Tengo catorce años. Yo tengo dos hermanos y un hermana. Estoy feliz y graciosa. Amo mi familia y amiga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152280" y="55627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g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447920" y="54864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Noviembre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Noviem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Noviembre 30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rg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R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Noviem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Margo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Noviem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mañana!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76160" y="55627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b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8:26:09Z</dcterms:modified>
  <cp:revision>106</cp:revision>
  <dc:subject/>
  <dc:title>Profile</dc:title>
</cp:coreProperties>
</file>